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92E-90B6-4241-B92A-8C4E6497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5DA-9198-48AB-9011-0FEB98A3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993-6D94-4F06-B565-243D96B7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089-22D0-459B-9D40-90160320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E3A-BCAE-43CD-BB7F-16917472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40A-4E2B-4099-875C-2818B22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DB4-040D-4D0E-A242-12032F3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F31-F5E2-4FA8-920E-C4990662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9E1-FED9-4C53-A616-A60B537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060-4234-4258-A540-C1735468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1F8-9743-4291-9CE8-3F098A3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1C8-BFDE-464C-A913-4DA3D0D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071DF-15AF-4B46-AC15-03E17F0E0D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420EB-EF59-4322-8066-523DD2FDE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84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572000" y="144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341460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572000" y="341460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Straight Connector 8"/>
          <p:cNvSpPr/>
          <p:nvPr/>
        </p:nvSpPr>
        <p:spPr>
          <a:xfrm>
            <a:off x="4572000" y="1440"/>
            <a:ext cx="15840" cy="68421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0"/>
          <p:cNvSpPr/>
          <p:nvPr/>
        </p:nvSpPr>
        <p:spPr>
          <a:xfrm>
            <a:off x="15840" y="3430440"/>
            <a:ext cx="9128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0:48:29Z</dcterms:created>
  <dc:creator>Caroline Roth</dc:creator>
  <dc:description/>
  <dc:language>en-US</dc:language>
  <cp:lastModifiedBy>Caroline Roth</cp:lastModifiedBy>
  <cp:lastPrinted>2011-03-22T00:55:43Z</cp:lastPrinted>
  <dcterms:modified xsi:type="dcterms:W3CDTF">2011-03-24T03:15:47Z</dcterms:modified>
  <cp:revision>2</cp:revision>
  <dc:subject/>
  <dc:title>Slide 1</dc:title>
</cp:coreProperties>
</file>